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8FAE-F3F7-41D2-89EC-64D4954D6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A7B0-E42E-4AF2-B119-FB7BCAE80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868B-529E-45B7-AE39-BC5B21792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F2C1-9D05-43B3-90DE-F9880DDD7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1527-C2A2-4E31-86DB-9F57530F3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9604-6438-422B-B8A0-AD088D4DE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6D6A-2ADD-4CAF-A806-E39AABD99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7C27-4658-4DBB-B74B-DC0B9B09C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05CD-36F4-45DA-ADC5-943F1977B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E9A0-B12C-4BE5-AE73-5FFF6F7A7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F7DC-3167-4921-963E-905979BD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E7AD-1AD9-47E4-AEBD-40BE6764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82810-D321-4DA1-86F6-B3B2311B1C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7320" y="517680"/>
            <a:ext cx="8834400" cy="55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97120" y="152280"/>
            <a:ext cx="566244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05120" y="76320"/>
            <a:ext cx="570852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6320" y="843120"/>
            <a:ext cx="899136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6320" y="768240"/>
            <a:ext cx="899136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6T19:37:51Z</dcterms:created>
  <dc:creator>swellman</dc:creator>
  <dc:description/>
  <dc:language>en-US</dc:language>
  <cp:lastModifiedBy>swellman</cp:lastModifiedBy>
  <dcterms:modified xsi:type="dcterms:W3CDTF">2010-04-16T19:39:06Z</dcterms:modified>
  <cp:revision>1</cp:revision>
  <dc:subject/>
  <dc:title>Slide 1</dc:title>
</cp:coreProperties>
</file>